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C6D718-B319-4F86-A3E6-E024C183EB6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726DA5-AC3F-4095-AA9E-EA9AAF001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088A38-0BC3-4412-9302-FAAE212A3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2060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7452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6668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2060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7452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7187EF-3AD1-4F5C-921D-56666ACA6EF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514240" y="22824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77AE02-E142-40E8-9101-524EE3517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060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7452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06668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72060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7452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C38B9E-1C37-47B0-A224-443BB3D89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20E4FB-DED1-437D-B167-87EBEAAEC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55B311-169A-4D1A-A39B-14B1BAE2B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514240" y="22824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53067A-DFD5-4C11-8058-C4C36465A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1D5BA0-CB20-4D0A-90F5-BC9BAF74E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A4B0FE-0134-48FE-B8E1-7B6B83858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45D12E-BA10-453C-B6DB-E3E022B98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7527960" y="6499080"/>
            <a:ext cx="11271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Jump to first page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8637480" y="6551640"/>
            <a:ext cx="131760" cy="15408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8866080" y="6553080"/>
            <a:ext cx="131760" cy="15408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93360" y="6400440"/>
            <a:ext cx="106524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93720" y="6553080"/>
            <a:ext cx="84456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 -</a:t>
            </a:r>
            <a:fld id="{CAFA6784-1592-4CA5-85C5-16CA98C84442}" type="slidenum">
              <a:rPr b="0" lang="en-US" sz="9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6680" y="1523880"/>
            <a:ext cx="807732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496880" y="1676520"/>
            <a:ext cx="764712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90920" y="45684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28144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141120" y="6400440"/>
            <a:ext cx="26654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191120" y="5029200"/>
            <a:ext cx="4519440" cy="11286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590920" y="45684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RNDC and TSIG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oe Able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abley@isc.or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slideset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Using TSIG to protect AXF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eriving a secre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dnssec-keygen -a ... -b ... -n... name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nfiguring the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n named.conf file, same syntax as for rndc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key { algorithm ...; secret ...;}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king use of the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n named.conf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server x { key ...; }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here 'x' is an IP number of the other serve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DDE652-B419-4D66-9946-D4BC14EAFF1D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figuration Examp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3" name=""/>
          <p:cNvSpPr/>
          <p:nvPr/>
        </p:nvSpPr>
        <p:spPr>
          <a:xfrm>
            <a:off x="533520" y="1676520"/>
            <a:ext cx="45720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Times New Roman"/>
              </a:rPr>
              <a:t>Primary server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9999"/>
                </a:solidFill>
                <a:latin typeface="Times New Roman"/>
                <a:ea typeface="Osaka"/>
              </a:rPr>
              <a:t>10.33.40.46</a:t>
            </a:r>
            <a:endParaRPr b="0" lang="en-US" sz="19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 ns1-ns2.zone.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algorithm hmac-md5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secret "APlaceToBe"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server 10.33.40.35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s {ns1-ns2.zone.;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zone "my.zone.test."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type master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file...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allow-transfer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 ns1-ns2.zone.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 ns1-ns3.zone.;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267080" y="1676520"/>
            <a:ext cx="45720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Times New Roman"/>
              </a:rPr>
              <a:t>Secondary server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9999"/>
                </a:solidFill>
                <a:latin typeface="Times New Roman"/>
                <a:ea typeface="Osaka"/>
              </a:rPr>
              <a:t>10.33.40.35</a:t>
            </a:r>
            <a:endParaRPr b="0" lang="en-US" sz="19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 ns1-ns2.zone.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algorithm hmac-md5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secret "APlaceToBe"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server 10.33.40.46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s {ns1-ns2.zone.;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zone "my.zone.test."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type slave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file...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masters {10.33.40.46;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allow-transfer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 ns1-ns2.zone.;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27280" y="5907240"/>
            <a:ext cx="72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gain, the secret looks okay, but is purposely invalid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481BAC-128E-48CE-AEC4-2CA7A9508566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IME!!!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SIG is time sensitive - to stop repla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essage protection expires in 5 minu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ke sure time is synchroniz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or testing, set the 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n operations, (secure) NTP is need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5606FE-3911-4E03-9750-BDBF2867D9A1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ther uses of TSI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SIG was designed for other purpo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rotecting sensitive stub resolver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s has proven hard to accomplis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ynamic Upd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iscussed later, securing this relies on TSI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0DEC9B-962B-41A4-864E-CF12C3DD6A79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lternatives to TSI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G (0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ublic key approach to same servic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as potential, but not much experience ye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eans to start with SIG(0) and wind up with TSI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lso, Microsoft uses this with Kerberos via GSSAP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874AC9-D66E-4D61-BF98-015353DCEB4C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is RNDC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mote Name Daemon Controll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and-line control of named daem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ually on same host, can be across hos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EFA432-635B-451D-AF26-306A8E8782C3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figuring RNDC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"rndc-conf" generates lines to be added to two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amed.con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ndc.con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54F40E-0FA8-48CA-A940-2FF6EDD496F4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Enabling RNDC in the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key defin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key rndc_key {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secret "</a:t>
            </a: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dY7/uIiR0fKGvi5z50+Q==</a:t>
            </a: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"; algorithm hmac-md5;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arning: example secret looks good but is invalid (don't copy it!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ntrols statem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controls {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inet 127.0.0.1 port 953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       </a:t>
            </a: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allow { 127.0.0.1; }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       </a:t>
            </a: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keys { "rndc-key"; };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C323F5-46F7-41A5-AB79-22AE57FA8032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Using an rndc.conf fi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/etc/rndc.conf specifies defaults for rnd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.g.,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key "rndc-key" {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algorithm hmac-md5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secret "dY7/uIiR0fKGvi5z50+Q=="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options {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default-key "rndc-key"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default-server 127.0.0.1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default-port 953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1C9262-9867-4E26-BD29-899D584B2FD5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can be done with RNDC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ndc stop - kills serv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ndc status - prints some informa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ndc stats - generates stat file (named.stat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ndc reload - refresh zone(s), w/varia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ndc trace - increases debug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ndc flush - removes cached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commands in the AR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07F026-873A-4D3A-AA3D-998ACA8F50CE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is TSIG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mechanism for protecting a message from a resolver to server and vice vers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keyed-hash is applied (like a digital signature) so recipient can verify messa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ased on a shared secret - both sender and reciever are configured with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02CEDC-9B71-4B9C-8877-6F3BE077A5E8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SIG and Message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1" name=""/>
          <p:cNvSpPr/>
          <p:nvPr/>
        </p:nvSpPr>
        <p:spPr>
          <a:xfrm>
            <a:off x="2895480" y="1828800"/>
            <a:ext cx="2438640" cy="838080"/>
          </a:xfrm>
          <a:prstGeom prst="rect">
            <a:avLst/>
          </a:prstGeom>
          <a:solidFill>
            <a:srgbClr val="cecece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NS Head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895480" y="2666880"/>
            <a:ext cx="2438640" cy="838440"/>
          </a:xfrm>
          <a:prstGeom prst="rect">
            <a:avLst/>
          </a:prstGeom>
          <a:solidFill>
            <a:srgbClr val="cecece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Question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895480" y="3505320"/>
            <a:ext cx="2438640" cy="838080"/>
          </a:xfrm>
          <a:prstGeom prst="rect">
            <a:avLst/>
          </a:prstGeom>
          <a:solidFill>
            <a:srgbClr val="cecece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nsw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895480" y="4343400"/>
            <a:ext cx="2438640" cy="838080"/>
          </a:xfrm>
          <a:prstGeom prst="rect">
            <a:avLst/>
          </a:prstGeom>
          <a:solidFill>
            <a:srgbClr val="cecece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uthority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895480" y="5181480"/>
            <a:ext cx="2438640" cy="914400"/>
          </a:xfrm>
          <a:prstGeom prst="rect">
            <a:avLst/>
          </a:prstGeom>
          <a:solidFill>
            <a:srgbClr val="cecece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dditional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&amp; TSIG data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666880" y="1752480"/>
            <a:ext cx="3353040" cy="3886200"/>
          </a:xfrm>
          <a:prstGeom prst="rect">
            <a:avLst/>
          </a:prstGeom>
          <a:noFill/>
          <a:ln w="38160">
            <a:solidFill>
              <a:srgbClr val="01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397480" y="2743200"/>
            <a:ext cx="154944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NS’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Original Message Format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2D33AA-EAED-4C4F-92B4-D4A2A26EAC1D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Names and Secret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SIG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-27432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 name is given to the key, the name is what is transmitted in the message (so receiver knows what key the sender used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SIG secret valu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-27432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 value determined during key gener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-27432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Usually seen in Base64 encod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'Looks' like the rndc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-27432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IND uses same interface for TSIG and RNDC key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3BDC12-8E6E-4CD7-9E5A-1F51023E792B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31T16:17:50Z</dcterms:created>
  <dc:creator>edward lewis</dc:creator>
  <dc:description/>
  <dc:language>en-US</dc:language>
  <cp:lastModifiedBy>Marmaduke Wildebeeste</cp:lastModifiedBy>
  <cp:lastPrinted>2003-02-20T08:17:40Z</cp:lastPrinted>
  <dcterms:modified xsi:type="dcterms:W3CDTF">2003-06-01T20:50:02Z</dcterms:modified>
  <cp:revision>25</cp:revision>
  <dc:subject/>
  <dc:title>PowerPoint Presentation  -  RNDC and TSIG</dc:title>
</cp:coreProperties>
</file>